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3.pct" ContentType="image/x-pict"/>
  <Override PartName="/ppt/media/image9.png" ContentType="image/png"/>
  <Override PartName="/ppt/media/image16.png" ContentType="image/png"/>
  <Override PartName="/ppt/media/image14.pct" ContentType="image/x-pict"/>
  <Override PartName="/ppt/media/image1.png" ContentType="image/png"/>
  <Override PartName="/ppt/media/image2.pct" ContentType="image/x-pict"/>
  <Override PartName="/ppt/media/image5.png" ContentType="image/png"/>
  <Override PartName="/ppt/media/image8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12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5F1-A521-4A1F-955F-40C0D2F717B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2A8-D801-4D4C-AAB8-5EEBFB87A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294-D01B-4FF2-B4D4-C5226DD8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D2-2EFB-4F34-B0B7-0B00B639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8E0-02C1-4D83-94C4-C04EB65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3C7-D6A3-41AD-BA68-BDDBB9CF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F53-B6BE-4196-9933-66D9198C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F65-7C99-416B-AF03-B9C7F6C3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8F0-1124-4F69-84E8-C2FC23D4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30B-FECC-44BE-AC94-C9B8E6B3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2F6-D1A2-4B77-8244-DE830D2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060-50EC-4FE7-BB2A-2FFDF25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800-0B3B-4406-BA77-1EB520E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A26-7A0D-431D-B0D9-57C118C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00F-F0F3-4047-8DCA-1E61C312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zona K-12 Center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EDA-0B3A-4C30-B380-6333AFEC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3"/>
          <a:stretch/>
        </p:blipFill>
        <p:spPr>
          <a:xfrm>
            <a:off x="1828800" y="3200400"/>
            <a:ext cx="1481040" cy="147780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13"/>
          <p:cNvSpPr/>
          <p:nvPr/>
        </p:nvSpPr>
        <p:spPr>
          <a:xfrm rot="10800000">
            <a:off x="3733560" y="3580920"/>
            <a:ext cx="1447560" cy="636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Ideas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1FA-46FE-43C7-9DC9-E3FFCD3B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1558-38D9-4213-BDDC-329BCB28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E06-F8AF-4639-B4E2-38C126D0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E01-2CE2-4DE4-B7B7-8E78A3E95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838080" y="182880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f by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ntroduction on page 1 along with 3 paragraphs on p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A478-C5EE-44AD-A890-386735F36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600200"/>
          <a:ext cx="7543800" cy="3559320"/>
        </p:xfrm>
        <a:graphic>
          <a:graphicData uri="http://schemas.openxmlformats.org/drawingml/2006/table">
            <a:tbl>
              <a:tblPr/>
              <a:tblGrid>
                <a:gridCol w="1447560"/>
                <a:gridCol w="3581640"/>
                <a:gridCol w="25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Numbered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System, Order and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idence, Models and Expla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Change, Constancy and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olution and 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Form and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6DDF-F57E-4516-A109-7EB6907E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 of th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235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205740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Summarize the key ideas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0FBF-EBD5-4652-98FA-EA414920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fting a Unifying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600200" y="3352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raft a matchbook definition of 10-12 words capturing the key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your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e prepared to share with the who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mknuck\Local Settings\Temporary Internet Files\Content.IE5\SL4CNW5K\MCj03511960000[1].wmf"/>
          <p:cNvPicPr/>
          <p:nvPr/>
        </p:nvPicPr>
        <p:blipFill>
          <a:blip r:embed="rId2"/>
          <a:stretch/>
        </p:blipFill>
        <p:spPr>
          <a:xfrm>
            <a:off x="3505320" y="2057400"/>
            <a:ext cx="1371600" cy="9986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62D-CC11-4F8F-8D8E-4F2F34AC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xtBox 15" descr=""/>
          <p:cNvPicPr/>
          <p:nvPr/>
        </p:nvPicPr>
        <p:blipFill>
          <a:blip r:embed="rId2"/>
          <a:stretch/>
        </p:blipFill>
        <p:spPr>
          <a:xfrm>
            <a:off x="1822320" y="1822320"/>
            <a:ext cx="5346720" cy="318312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8069-0423-4A3C-A485-2CABEC2E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0840"/>
          <a:ext cx="8229600" cy="6402240"/>
        </p:xfrm>
        <a:graphic>
          <a:graphicData uri="http://schemas.openxmlformats.org/drawingml/2006/table">
            <a:tbl>
              <a:tblPr/>
              <a:tblGrid>
                <a:gridCol w="219600"/>
                <a:gridCol w="2388960"/>
                <a:gridCol w="2571120"/>
                <a:gridCol w="3049920"/>
              </a:tblGrid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2576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90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Group 23"/>
          <p:cNvGrpSpPr/>
          <p:nvPr/>
        </p:nvGrpSpPr>
        <p:grpSpPr>
          <a:xfrm>
            <a:off x="203040" y="2924280"/>
            <a:ext cx="8407080" cy="1169640"/>
            <a:chOff x="203040" y="2924280"/>
            <a:chExt cx="8407080" cy="1169640"/>
          </a:xfrm>
        </p:grpSpPr>
        <p:grpSp>
          <p:nvGrpSpPr>
            <p:cNvPr id="137" name="Group 35"/>
            <p:cNvGrpSpPr/>
            <p:nvPr/>
          </p:nvGrpSpPr>
          <p:grpSpPr>
            <a:xfrm>
              <a:off x="203040" y="2924280"/>
              <a:ext cx="8407080" cy="1169640"/>
              <a:chOff x="203040" y="2924280"/>
              <a:chExt cx="8407080" cy="1169640"/>
            </a:xfrm>
          </p:grpSpPr>
          <p:sp>
            <p:nvSpPr>
              <p:cNvPr id="138" name="Rectangle 36"/>
              <p:cNvSpPr/>
              <p:nvPr/>
            </p:nvSpPr>
            <p:spPr>
              <a:xfrm>
                <a:off x="203040" y="3013200"/>
                <a:ext cx="7608240" cy="97704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7"/>
              <p:cNvSpPr/>
              <p:nvPr/>
            </p:nvSpPr>
            <p:spPr>
              <a:xfrm rot="5400000">
                <a:off x="7585920" y="3069720"/>
                <a:ext cx="1169640" cy="878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38"/>
            <p:cNvSpPr/>
            <p:nvPr/>
          </p:nvSpPr>
          <p:spPr>
            <a:xfrm>
              <a:off x="609120" y="322740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203040" y="4135320"/>
            <a:ext cx="8432280" cy="1169640"/>
            <a:chOff x="203040" y="4135320"/>
            <a:chExt cx="8432280" cy="1169640"/>
          </a:xfrm>
        </p:grpSpPr>
        <p:grpSp>
          <p:nvGrpSpPr>
            <p:cNvPr id="142" name="Group 29"/>
            <p:cNvGrpSpPr/>
            <p:nvPr/>
          </p:nvGrpSpPr>
          <p:grpSpPr>
            <a:xfrm>
              <a:off x="203040" y="4135320"/>
              <a:ext cx="8432280" cy="1169640"/>
              <a:chOff x="203040" y="4135320"/>
              <a:chExt cx="8432280" cy="1169640"/>
            </a:xfrm>
          </p:grpSpPr>
          <p:sp>
            <p:nvSpPr>
              <p:cNvPr id="143" name="Rectangle 30"/>
              <p:cNvSpPr/>
              <p:nvPr/>
            </p:nvSpPr>
            <p:spPr>
              <a:xfrm>
                <a:off x="203040" y="4224240"/>
                <a:ext cx="7631280" cy="97704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1"/>
              <p:cNvSpPr/>
              <p:nvPr/>
            </p:nvSpPr>
            <p:spPr>
              <a:xfrm rot="5400000">
                <a:off x="7610040" y="4279680"/>
                <a:ext cx="11696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39"/>
            <p:cNvSpPr/>
            <p:nvPr/>
          </p:nvSpPr>
          <p:spPr>
            <a:xfrm>
              <a:off x="711000" y="443844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161645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161645"/>
                  </a:solidFill>
                  <a:latin typeface="Arial"/>
                </a:rPr>
                <a:t>History and Nature of Sc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203040" y="5348160"/>
            <a:ext cx="8432280" cy="1211040"/>
            <a:chOff x="203040" y="5348160"/>
            <a:chExt cx="8432280" cy="1211040"/>
          </a:xfrm>
        </p:grpSpPr>
        <p:grpSp>
          <p:nvGrpSpPr>
            <p:cNvPr id="147" name="Group 32"/>
            <p:cNvGrpSpPr/>
            <p:nvPr/>
          </p:nvGrpSpPr>
          <p:grpSpPr>
            <a:xfrm>
              <a:off x="203040" y="5348160"/>
              <a:ext cx="8432280" cy="1211040"/>
              <a:chOff x="203040" y="5348160"/>
              <a:chExt cx="8432280" cy="1211040"/>
            </a:xfrm>
          </p:grpSpPr>
          <p:sp>
            <p:nvSpPr>
              <p:cNvPr id="148" name="Rectangle 33"/>
              <p:cNvSpPr/>
              <p:nvPr/>
            </p:nvSpPr>
            <p:spPr>
              <a:xfrm>
                <a:off x="203040" y="5439960"/>
                <a:ext cx="7631280" cy="1011600"/>
              </a:xfrm>
              <a:prstGeom prst="rect">
                <a:avLst/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34"/>
              <p:cNvSpPr/>
              <p:nvPr/>
            </p:nvSpPr>
            <p:spPr>
              <a:xfrm rot="5400000">
                <a:off x="7589160" y="5513040"/>
                <a:ext cx="12110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40"/>
            <p:cNvSpPr/>
            <p:nvPr/>
          </p:nvSpPr>
          <p:spPr>
            <a:xfrm>
              <a:off x="711000" y="565092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203040" y="1712880"/>
            <a:ext cx="8432280" cy="1109160"/>
            <a:chOff x="203040" y="1712880"/>
            <a:chExt cx="8432280" cy="1109160"/>
          </a:xfrm>
        </p:grpSpPr>
        <p:grpSp>
          <p:nvGrpSpPr>
            <p:cNvPr id="152" name="Group 43"/>
            <p:cNvGrpSpPr/>
            <p:nvPr/>
          </p:nvGrpSpPr>
          <p:grpSpPr>
            <a:xfrm>
              <a:off x="203040" y="1712880"/>
              <a:ext cx="8432280" cy="1109160"/>
              <a:chOff x="203040" y="1712880"/>
              <a:chExt cx="8432280" cy="1109160"/>
            </a:xfrm>
          </p:grpSpPr>
          <p:sp>
            <p:nvSpPr>
              <p:cNvPr id="153" name="Rectangle 44"/>
              <p:cNvSpPr/>
              <p:nvPr/>
            </p:nvSpPr>
            <p:spPr>
              <a:xfrm>
                <a:off x="203040" y="1797120"/>
                <a:ext cx="7631280" cy="9266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rot="5400000">
                <a:off x="7640280" y="1827000"/>
                <a:ext cx="110916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47"/>
            <p:cNvSpPr/>
            <p:nvPr/>
          </p:nvSpPr>
          <p:spPr>
            <a:xfrm>
              <a:off x="2032920" y="201528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04920" y="1611360"/>
            <a:ext cx="7619760" cy="5756400"/>
            <a:chOff x="304920" y="1611360"/>
            <a:chExt cx="7619760" cy="5756400"/>
          </a:xfrm>
        </p:grpSpPr>
        <p:sp>
          <p:nvSpPr>
            <p:cNvPr id="157" name="AutoShape 48"/>
            <p:cNvSpPr/>
            <p:nvPr/>
          </p:nvSpPr>
          <p:spPr>
            <a:xfrm>
              <a:off x="304920" y="1611360"/>
              <a:ext cx="7619760" cy="5756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 rot="2314200">
              <a:off x="2039040" y="3667320"/>
              <a:ext cx="431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78FA-81DB-43C3-A7A6-001DB206F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38080" y="15238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 science topic is taught is more important than the topic it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Understanding concepts in science is more than learning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87B-2653-4CA1-B10E-78EA6EE2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34B-D02E-445F-B4C6-0DB59AB9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540160" y="198360"/>
            <a:ext cx="6146640" cy="3837240"/>
          </a:xfrm>
          <a:prstGeom prst="downArrowCallout">
            <a:avLst>
              <a:gd name="adj1" fmla="val 42245"/>
              <a:gd name="adj2" fmla="val 4583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D107-8D8C-4A9E-B13A-987CCB2F5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762120" y="129528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Is teaching students to only name the parts of a plant teaching the big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could you structure instruction on plants so that you are teaching to a big idea or id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3837-49A4-461F-8206-07840DCC9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692E-D414-49BD-AA1D-A4406FB2B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2540160" y="298440"/>
            <a:ext cx="6146640" cy="3332160"/>
          </a:xfrm>
          <a:prstGeom prst="downArrowCallout">
            <a:avLst>
              <a:gd name="adj1" fmla="val 42260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540160" y="3732120"/>
            <a:ext cx="6146640" cy="2924280"/>
          </a:xfrm>
          <a:prstGeom prst="downArrowCallout">
            <a:avLst>
              <a:gd name="adj1" fmla="val 48154"/>
              <a:gd name="adj2" fmla="val 52227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68F-F9CA-4BBB-9692-91405D45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33520" y="121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Think of your choice of a Big Idea to teach, what theme might be appropri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theme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675-A5B1-4F3F-B357-08AF4FA2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FCC-26A4-48E8-A9F6-783F1E36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540160" y="198360"/>
            <a:ext cx="6146640" cy="2422440"/>
          </a:xfrm>
          <a:prstGeom prst="downArrowCallout">
            <a:avLst>
              <a:gd name="adj1" fmla="val 58130"/>
              <a:gd name="adj2" fmla="val 63046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438280" y="2722680"/>
            <a:ext cx="6147000" cy="2019240"/>
          </a:xfrm>
          <a:prstGeom prst="downArrowCallout">
            <a:avLst>
              <a:gd name="adj1" fmla="val 69741"/>
              <a:gd name="adj2" fmla="val 7564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438280" y="4843440"/>
            <a:ext cx="6147000" cy="1859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8F3-44FF-4F58-98FA-013F7789F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 flipH="1" rot="10800000">
            <a:off x="304560" y="198360"/>
            <a:ext cx="14731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031840" y="198360"/>
            <a:ext cx="6807240" cy="646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895-88F0-4924-A9EA-CBD9F027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33520" y="1219320"/>
            <a:ext cx="7391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ased on your choice of a big idea and theme to teach, what might be a powerful connection to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mathematics focus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830-7013-41CF-A721-F4521318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nthesizing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 3"/>
          <p:cNvSpPr/>
          <p:nvPr/>
        </p:nvSpPr>
        <p:spPr>
          <a:xfrm>
            <a:off x="2171880" y="1852560"/>
            <a:ext cx="4800600" cy="3000600"/>
          </a:xfrm>
          <a:prstGeom prst="pie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781360" y="3948120"/>
            <a:ext cx="125280" cy="123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2843280" y="4010040"/>
            <a:ext cx="1119240" cy="866880"/>
            <a:chOff x="2843280" y="4010040"/>
            <a:chExt cx="1119240" cy="866880"/>
          </a:xfrm>
        </p:grpSpPr>
        <p:sp>
          <p:nvSpPr>
            <p:cNvPr id="213" name="Rectangle 24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6"/>
          <p:cNvSpPr/>
          <p:nvPr/>
        </p:nvSpPr>
        <p:spPr>
          <a:xfrm>
            <a:off x="3882960" y="3132000"/>
            <a:ext cx="225360" cy="225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3371760" y="3376440"/>
            <a:ext cx="2400480" cy="1368720"/>
            <a:chOff x="3371760" y="3376440"/>
            <a:chExt cx="2400480" cy="1368720"/>
          </a:xfrm>
        </p:grpSpPr>
        <p:sp>
          <p:nvSpPr>
            <p:cNvPr id="217" name="Rectangle 22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18"/>
          <p:cNvSpPr/>
          <p:nvPr/>
        </p:nvSpPr>
        <p:spPr>
          <a:xfrm>
            <a:off x="5448240" y="2614680"/>
            <a:ext cx="312840" cy="312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5335560" y="2919240"/>
            <a:ext cx="1636920" cy="2086200"/>
            <a:chOff x="5335560" y="2919240"/>
            <a:chExt cx="1636920" cy="2086200"/>
          </a:xfrm>
        </p:grpSpPr>
        <p:sp>
          <p:nvSpPr>
            <p:cNvPr id="221" name="Rectangle 20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5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BC5-60F4-481E-86F6-683A5A3F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182880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7A10-F2E9-4237-B104-34998E51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D607-8E62-4201-990C-FD1484D7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3581280" y="2666880"/>
            <a:ext cx="1752480" cy="1523880"/>
            <a:chOff x="3581280" y="2666880"/>
            <a:chExt cx="1752480" cy="1523880"/>
          </a:xfrm>
        </p:grpSpPr>
        <p:sp>
          <p:nvSpPr>
            <p:cNvPr id="234" name="Freeform 5"/>
            <p:cNvSpPr/>
            <p:nvPr/>
          </p:nvSpPr>
          <p:spPr>
            <a:xfrm>
              <a:off x="4106520" y="294228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4146120" y="298188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4375800" y="371556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3581280" y="266688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3630960" y="269208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Slide Number Placeholder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483-E8F2-46AA-8876-87351A9BF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493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564840" cy="12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3230640"/>
            <a:ext cx="944892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7960" y="4645080"/>
            <a:ext cx="86360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9480" y="54529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9FA-072E-43BA-B3F6-296E7A85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914400" y="1828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students learn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Grou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959F-E3F6-4CB2-8FDD-1BDBCEA0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914400" y="1509840"/>
            <a:ext cx="227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454560" y="1509840"/>
            <a:ext cx="226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994360" y="1509840"/>
            <a:ext cx="2298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116080"/>
          <a:ext cx="7238880" cy="41403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203040" y="198360"/>
            <a:ext cx="1651320" cy="12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7823160" y="198360"/>
            <a:ext cx="96372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7FE1-8D22-43D5-879F-DC468504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838080" y="1447920"/>
            <a:ext cx="678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qu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ing and describi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scientific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science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AE47-998E-4852-B947-AB70CEB2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bout How Students Le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ow People Learn"/>
          <p:cNvPicPr/>
          <p:nvPr/>
        </p:nvPicPr>
        <p:blipFill>
          <a:blip r:embed="rId2"/>
          <a:stretch/>
        </p:blipFill>
        <p:spPr>
          <a:xfrm>
            <a:off x="2057400" y="1676520"/>
            <a:ext cx="156060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ow Students Learn Mathematics"/>
          <p:cNvPicPr/>
          <p:nvPr/>
        </p:nvPicPr>
        <p:blipFill>
          <a:blip r:embed="rId3"/>
          <a:stretch/>
        </p:blipFill>
        <p:spPr>
          <a:xfrm>
            <a:off x="5181480" y="1676520"/>
            <a:ext cx="1517760" cy="2184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7"/>
          <p:cNvSpPr/>
          <p:nvPr/>
        </p:nvSpPr>
        <p:spPr>
          <a:xfrm>
            <a:off x="1523880" y="419112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books.nap.edu/catalog/98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www.nap.edu/books/0309089492/ht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406-5CAD-4FB6-99E5-DA08AA43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523880" y="4191120"/>
            <a:ext cx="609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905120" y="2286000"/>
            <a:ext cx="48765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Fish is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Leo Lio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576D-3B7F-4B87-92E5-F215F3C3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3:47Z</dcterms:created>
  <dc:creator>CC</dc:creator>
  <dc:description/>
  <dc:language>en-US</dc:language>
  <cp:lastModifiedBy>Jennifer Robinson</cp:lastModifiedBy>
  <cp:lastPrinted>2009-05-26T19:43:40Z</cp:lastPrinted>
  <dcterms:modified xsi:type="dcterms:W3CDTF">2009-06-06T14:08:06Z</dcterms:modified>
  <cp:revision>39</cp:revision>
  <dc:subject/>
  <dc:title>PowerPoint Presentation</dc:title>
</cp:coreProperties>
</file>